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190C-7F4F-444F-96EF-C0A3DDCE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6CA2-88CC-4ED8-B075-F7198373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F20-8A8B-49FE-B47A-569A1908F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57D-F8F2-4AE9-AA97-F934AB15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A49-7EDB-4634-9BA3-4D09083B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1A5-9298-49DF-AA8B-BA9377B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A38-0A5B-4A09-9140-09CE443F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EDE-283D-4022-8E2D-6D321CB1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DFD9-4508-4565-93A5-60600E16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E42-0D6F-4673-9AB5-8E504369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A0B-DA1B-47BE-8F58-BD667D2B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054-7063-4E3A-848E-0CD73F4C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DA0-F78A-4667-9AB0-2A900211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13372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atic 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762760" cy="2046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160800"/>
            <a:ext cx="8610480" cy="76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809880" cy="263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9T13:59:51Z</dcterms:modified>
  <cp:revision>9</cp:revision>
  <dc:subject/>
  <dc:title>Slide 1</dc:title>
</cp:coreProperties>
</file>